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965-34FB-4EE7-998B-FD2B758F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C56-A01A-47AD-95AD-900B947E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AB6-32B8-47D5-B046-3FD134B1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AB0-C0C3-417F-AE9A-DCD8D2BE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CB7-5CF8-4735-BBB9-EF659BD0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48B-300B-48A9-A025-4011D7BB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815-BBF6-4C80-933C-B1AA1FD7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D11-5BD3-409C-B9F9-E9F2D31E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3A0-DFF7-4B3A-9E50-A28D837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5D9-786E-4581-94E6-61D01BD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1EC-043B-4F1E-845F-E817625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5CB-1718-469C-838B-D959B22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FD5-2B1C-4874-8DF8-2A30D1324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ulu.com/" TargetMode="External"/><Relationship Id="rId2" Type="http://schemas.openxmlformats.org/officeDocument/2006/relationships/hyperlink" Target="http://www.hulu.com/watch/68815/war-stories-with-oliver-north-berlin---standoff-behind-the-iron-curtain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ras Light ITC"/>
              </a:rPr>
              <a:t>1945-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Cold War Revie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8088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ugust 13, 1961 the border of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closed…this must have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 which Soviet lea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2057400"/>
            <a:ext cx="28958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kita Krush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191120" cy="351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638680" y="5791320"/>
            <a:ext cx="28958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ne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181480" cy="3976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3962520"/>
            <a:ext cx="769608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ly because…in Sept of 1959, wh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ing the U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denied entrance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ppiest place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609480"/>
            <a:ext cx="4038480" cy="3048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457200"/>
            <a:ext cx="579096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ident Eisenhower: U2 In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715000" cy="5141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495680"/>
            <a:ext cx="769608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ost likely a reaction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caught spying on hi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what is known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969920"/>
            <a:ext cx="7391520" cy="4659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0400" y="5562720"/>
            <a:ext cx="5791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LIN WALL 1961-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52280"/>
            <a:ext cx="769644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ugust 17, 1961…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onstructed as a visual reminder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 Curta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4572000"/>
            <a:ext cx="556272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lu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Stories with Oliver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24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ulu.com/watch/68815/war-stories-with-oliver-north-berlin---standoff-behind-the-iron-cur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133800" cy="457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0" t="0" r="0" b="4781"/>
          <a:stretch/>
        </p:blipFill>
        <p:spPr>
          <a:xfrm>
            <a:off x="4952880" y="762120"/>
            <a:ext cx="3262320" cy="4647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90920" y="609480"/>
            <a:ext cx="2286000" cy="18288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4120"/>
            <a:ext cx="36576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hail Gorba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5-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334120"/>
            <a:ext cx="36576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is Yelt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838080"/>
            <a:ext cx="3048120" cy="1295640"/>
          </a:xfrm>
          <a:prstGeom prst="wedgeRectCallout">
            <a:avLst>
              <a:gd name="adj1" fmla="val -33074"/>
              <a:gd name="adj2" fmla="val 7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7244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39760"/>
            <a:ext cx="7201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UPLE OF THINGS LEAD TO THE END OF THE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) Gorbachev becomes leader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SR, favor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las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penne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) Germans tear down the Berlin Wall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)  Soviets and USA unite to fight Sadda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Gulf War (Jan 16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eb 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99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o you 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ABC cards to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895480"/>
            <a:ext cx="19810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895480"/>
            <a:ext cx="1981440" cy="281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895480"/>
            <a:ext cx="198108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nd when did it all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272088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62520" y="3505320"/>
            <a:ext cx="2771640" cy="2152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143000"/>
            <a:ext cx="617220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first introduced Commu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Russian Socie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d this take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590920"/>
            <a:ext cx="41148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ladimir Lenin: 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267080"/>
            <a:ext cx="617220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id the Russian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sm?  Describe their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this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91320"/>
            <a:ext cx="91440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ssian = Desperate:  WWI had made them poor =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0880" y="990720"/>
            <a:ext cx="41529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ost-WWII Meeting set the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uture conflict 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SR &amp; Amer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2133720"/>
            <a:ext cx="41148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alta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495680" cy="366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26708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decisions made at Y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ow did they set the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uture Cold War Confli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80880"/>
            <a:ext cx="61722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A/USSR Fought 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Germany pay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If Poland would 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If the rest of Europe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If Russia would help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ht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5105520" cy="48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419360" cy="3975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33720" y="3581280"/>
            <a:ext cx="2743200" cy="1295640"/>
          </a:xfrm>
          <a:prstGeom prst="line">
            <a:avLst/>
          </a:prstGeom>
          <a:ln w="130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decision in referen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’s fa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362480" cy="3114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09680" y="3276720"/>
            <a:ext cx="6477120" cy="2133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what meeting did we tell 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the Atomic Bomb?  What w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of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304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tsdam Conference (1945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rms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5715000" cy="3552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8088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id Stalin blockade the commu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e of Berlin?  What w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ied Powers’ respo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724280"/>
            <a:ext cx="784872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mad that G.B. France and USA united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nes = were we gaining up on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tart supplying W.Berlin’s people via the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lift (1948-19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09:03Z</dcterms:created>
  <dc:creator>Administrator</dc:creator>
  <dc:description/>
  <dc:language>en-US</dc:language>
  <cp:lastModifiedBy>IT Department</cp:lastModifiedBy>
  <dcterms:modified xsi:type="dcterms:W3CDTF">2012-02-22T13:17:14Z</dcterms:modified>
  <cp:revision>15</cp:revision>
  <dc:subject/>
  <dc:title>The End of The Cold War</dc:title>
</cp:coreProperties>
</file>